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71D-CF3C-4A14-B2DA-AF8E06EC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C07-5536-40CD-BC7B-229509F6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449-3A35-4899-9053-1738573F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AFB-7698-4E4F-B47E-5C48EB98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3EF-E45B-4218-85F5-05BB848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3DB-66CA-48C9-BF9E-8546E2E8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E6C-AEC7-4C02-8418-40C3BC69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D75-6E89-463F-83DF-FFB740F3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F00-903E-42DE-99B2-F7E4A616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6B8-703F-4181-BA44-5251CE52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A79-ED45-41F5-9FA4-9164824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A7E-2E96-487B-99AE-D0441D2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7DF-14C7-4875-B334-FAFF5D09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32448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22:51:17Z</dcterms:created>
  <dc:creator> </dc:creator>
  <dc:description/>
  <dc:language>en-US</dc:language>
  <cp:lastModifiedBy> </cp:lastModifiedBy>
  <dcterms:modified xsi:type="dcterms:W3CDTF">2007-01-02T22:53:48Z</dcterms:modified>
  <cp:revision>3</cp:revision>
  <dc:subject/>
  <dc:title>Slide 1</dc:title>
</cp:coreProperties>
</file>